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799-740D-4BD6-9832-28A0894891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44C-4B27-4A88-9CAF-1BD186E8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1C4-2961-4448-B81B-1B542FFA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F4F-730D-45AD-A14A-109565A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70F-C669-478A-ABC4-79C691B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1074-BC7B-4AC2-BB4E-609FE009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D9C9-950B-4281-937A-BEA6C6F9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A8FC-A5DA-4724-94BA-4F77278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F705-5D38-4A20-BD2C-69623B2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97E-2932-41EB-B9E8-EADA7A42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F18-DA1E-4F6F-8803-ED9712B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9B25-E14F-47ED-B551-8420E7D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059-42A2-4C3A-B2F5-130C7AE3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CB9-73DE-4B04-A6F8-35D96E25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EF8C-8F00-4A7D-85BF-C0D08D5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7A1D-4229-4BFF-B271-61A99D7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F4A2-E4E7-48A4-AF32-2AB8250F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2B5-A665-42EE-A75F-F85B0A8F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399-8260-48EB-AEF9-F2EEF015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945-D7FD-4C4D-82D3-5A3E5D9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07F-0B30-4EA9-BE4B-7A8BCEB6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97E-DA03-4D62-8987-EDD5A03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C07-DD28-442B-86F6-4445925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6C1-F426-4FDD-956F-B53EC347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6AE-6469-4C49-AA6A-832E53B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C6B2-B75C-43A1-AF4D-1B91E7F9473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F746-418C-4926-ACC8-AD73ED76ABB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18B0-3158-4EFC-8E02-ECE2CC0E4DD6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Imp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Microsoft</cp:lastModifiedBy>
  <dcterms:modified xsi:type="dcterms:W3CDTF">2010-05-10T11:28:29Z</dcterms:modified>
  <cp:revision>12</cp:revision>
  <dc:subject/>
  <dc:title>Internet</dc:title>
</cp:coreProperties>
</file>